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C1D-E27D-48ED-82DC-EDCB0B66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3C2-5B98-4472-8C42-8A28EDA7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FB8-70F0-467C-A25E-6C477656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EAE-2ED8-4D77-A424-3AF5D3CA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B192-48AD-4B1A-8A0E-A7083ABC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F878-4C0E-485E-B539-B0EDE1A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7927-97A7-4E77-B2CF-895D8C63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3737-6D22-4C8F-8003-9A2D5286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4084-BB38-499D-9469-0A1018C5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999F-43AF-4A80-BF45-675F7B0E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5597-F814-4984-98BD-F2FD67E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033-498E-4874-868C-90A4B5A4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DE35-4F3A-4753-AF53-4D9C0D7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9B31-E965-434A-808F-7DAA9DE3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B28-F7F8-4144-BFA3-14F66734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7D1E-B805-4123-83AD-95F1E747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E376-E197-4BBB-B62E-4ED24720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F3F-8E07-417E-92C8-889C47D3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3B1-3968-44C1-B167-8F2F78E4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450-2BA0-4DD1-BC5C-04C704DB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50D-EE49-4DB3-9CD6-0AE4FBD8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A51-E7F1-4C46-82EF-8CBF1182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6EF-5FEC-41CE-9DA2-6BCB4DD1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AD8-D990-4406-AD11-5543427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1E3C7-A81E-42E6-BE6E-B62E42AC97A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0AA7ED-A806-4AD2-B862-D84D28DEC015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eografianair9.blogspot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of-nair-palacio.wikispaces.com/" TargetMode="External"/><Relationship Id="rId2" Type="http://schemas.openxmlformats.org/officeDocument/2006/relationships/hyperlink" Target="http://picoli.wikispaces.com/" TargetMode="External"/><Relationship Id="rId3" Type="http://schemas.openxmlformats.org/officeDocument/2006/relationships/hyperlink" Target="http://kennedyab.wikispaces.com/" TargetMode="External"/><Relationship Id="rId4" Type="http://schemas.openxmlformats.org/officeDocument/2006/relationships/hyperlink" Target="http://teachermarina.wikispaces.com/" TargetMode="External"/><Relationship Id="rId5" Type="http://schemas.openxmlformats.org/officeDocument/2006/relationships/hyperlink" Target="http://consumoconsciente01.wikispaces.com/" TargetMode="External"/><Relationship Id="rId6" Type="http://schemas.openxmlformats.org/officeDocument/2006/relationships/hyperlink" Target="http://projetoeletricidade.wikispaces.com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6792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0033"/>
                </a:solidFill>
                <a:latin typeface="Times New Roman"/>
              </a:rPr>
              <a:t>Escola Estadual Profª. Nair Palácio de Souza</a:t>
            </a:r>
            <a:br>
              <a:rPr sz="2400"/>
            </a:br>
            <a:r>
              <a:rPr b="1" lang="pt-BR" sz="2400" spc="-1" strike="noStrike">
                <a:solidFill>
                  <a:srgbClr val="330033"/>
                </a:solidFill>
                <a:latin typeface="Times New Roman"/>
              </a:rPr>
              <a:t>apresenta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4038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 DOS PROFESSORES DA SALA DE TECNOLOGIAS EDUCACION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 ENCONTRO- PSTE -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800" y="-180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20720" y="3246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92776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va Andradina-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fessores participa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4229280"/>
            <a:ext cx="2884680" cy="216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2540160" cy="2076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299736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85800" y="4038480"/>
            <a:ext cx="2590920" cy="21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urso Atac I e Linu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431040" y="1600200"/>
            <a:ext cx="246384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581280" y="152244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949320" y="2746440"/>
            <a:ext cx="2387520" cy="2190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613320" y="4525920"/>
            <a:ext cx="2286000" cy="1792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402240" y="3886200"/>
            <a:ext cx="2311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da STE da E.E. Profª Nair Palácio de Souza agradecem a todos os participantes desse projeto e espera no 2º semestre a adesão de todos os professores, para a construção de suas páginas, seus sites, blogs, enfim, que façam da WEB um meio de comunicação e transmissão de conhecimentos aos seus alu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330033"/>
                </a:solidFill>
                <a:latin typeface="Times New Roman"/>
              </a:rPr>
              <a:t>PROJETO: NAIR PALÁCIO NA WEB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desenvolvido no 1º semestre do ano letivo de 2009 pelos professores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ernando Milhorança, José Marcelo Gomes e Marina Alessandra de Oliveira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tuantes e responsáveis pel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ala de Tecnologias Educa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cola Estadual Profª. Nair Palácio de Sou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colha deste projeto tem como principal finalidade a oportunização do conhecimento tecnológico para  todos os regentes de nossa escola, possibilitando o acesso a novas formas de transmissão de conhecimento através de Webtecnologias, tai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log, wikispaces,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outras ferramentas indispensáveis para o uso adequado da Sala de Tecnolog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end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es Regentes da Educação Bás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tores da Escola Estadual Profª. Nair Palácio de Sou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ivos Específ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2800" indent="-71280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entivar o uso adequado da Sala de Tecnologias Educacionais valorizando o processo de ensino-aprendiz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ir e alimentar dentro da rede virtual sites, blogs, páginas na internet que possibilitem a interação entre professor da STE, professor regente e alu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entar e dar suporte técnico-pedagógico na elaboração e realização de projetos educacionais voltados ao uso das novas tecnolo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r o nome da escola na Web, tornando público todos os trabalhos, projetos, aulas desenvolvidos na Sala de Tecnologias Educacionais, promovendo assim o reconhecimento da comunidade pelas nossas ações educac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tod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mente serão feitas reuniões entre os professores da Sala de Tecnologias dos três períodos para discussão sobre os projetos a serem divulgados e na elaboração das ações desenvolv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essas reuniões os PSTES orientarão os professores regentes a  participarem dos cursos oferecidos pela STE: Wikispaces/ Blog para disponibilizarem na Internet seus espaços virtu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a realização dos cursos cada professor participante procurará a STE da escola em sua hora atividade ou tempo livre para divulgar em seus espaços virtuais, atividades de complementação de suas aulas e projetos, fotos, etc. Logo após esse período de orientação os professores da STE organizarão um fichamento dos sites, blogs e wikis criad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86040"/>
            <a:ext cx="91440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330033"/>
                </a:solidFill>
                <a:latin typeface="Times New Roman"/>
              </a:rPr>
              <a:t>Resultados</a:t>
            </a:r>
            <a:br>
              <a:rPr sz="2500"/>
            </a:br>
            <a:r>
              <a:rPr b="1" lang="pt-BR" sz="2500" spc="-1" strike="noStrike">
                <a:solidFill>
                  <a:srgbClr val="330033"/>
                </a:solidFill>
                <a:latin typeface="Times New Roman"/>
              </a:rPr>
              <a:t>Sites e blogs desenvolvidos pelos por professores regentes no ambiente da STE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sta de endereços eletrônicos disponibilizados pela Escola Estadual Profª Nair Palácio de Souza n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blogescolanairpalacio.blogspot.com/=&gt; Divulga todos os projetos, eventos da escola, aulas na Sala de Tecnologias Educacionais, além de atuar como página principal, onde se encontra todos os outros blogs em forma de links a serem acess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jornalvirtualnairpalaciodesouza.blogspot.com/=&gt; Blog criado pela Profª Andréia Erdman para divulgação das produções textuais, aulas interessantes, notícias e novidades relacionadas ao uso da Língua Portugu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projetoaguaevida.blogspot.com/=&gt; Blog criado para postagem de todas as atividades desenvolvidas no Projeto: Água e Vida, desenvolvido no 1º Bimestre pelos professores da área de Ciências Humanas e Fís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geografianair8.blogspot.com /=&gt; Blog criado com a finalidade de postagens das atividades a serem trabalhadas pelo professor Adevair, na disciplina de Geografia, divulgação de conteúdo para avaliações, gabaritos de provas realizadas, sugestões de sites para pesquisas, etc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geografianair9.blogspot.com/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&gt; Blog criado com a finalidade de postagens das atividades a serem trabalhadas pelo professor Adevair, na disciplina de Geografia, divulgação de conteúdo para avaliações, gabaritos de provas realizadas, sugestões de sites para pesquisas, 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neidesociologianair.blogspot.com/=&gt; Espaço destinado a postagens de vídeos, slides, textos produzidos pelos alunos da Profª Neide Rosenbaum, na disciplina de Sociologia, com maior destaque para o projeto: “Solidariedad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profmarciafilo.blogspot.com/=&gt; Espaço destinado a postagens de vídeos, slides, textos produzidos pelos alunos da Profª Márcia Guimarães, na disciplina de Filosof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professoramarina.blogspot.com/=&gt; Espaço destinado a postagens de slides, vídeos, conteúdos relativos às disciplinas de Língua Portuguesa e Literatura, criado pela Profª Marina, atuante na Sala de Tecnologias Educac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áginas no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rof-nair-palacio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icoli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kennedyab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teachermarina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consumoconsciente01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projetoeletricidade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fkelle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lslnb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marcelogome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rosenbaum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jandrey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tecnicomarketing.wikispaces.co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info</cp:lastModifiedBy>
  <cp:revision>0</cp:revision>
  <dc:subject/>
  <dc:title>PowerPoint Presentation</dc:title>
</cp:coreProperties>
</file>